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DD4-BB7D-416B-94D2-4468E616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539-689F-431C-A12F-6E0265A5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6D9-F2C3-4EF4-BD0C-41AD30FF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09E-E0ED-44E1-BC0B-ACF50160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9315-BAC2-4FAC-B51D-471773B4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B3FD-884A-4F68-BE29-BB599FB2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7814-7F92-4805-80F4-02AAD67C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E8F4-13E0-461F-BDD5-5FC02291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4C78-13B0-48C3-90AA-31C1BE17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A98D-D146-4B23-8B7B-17641829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D0A7-BC63-4A13-A9B9-D14B1060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FB8-4E7A-4A6D-9121-D18639BB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2245-745E-48C9-8AA7-5453EE5C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31FF-7CBA-4AC3-9290-5927348E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1E0A-61E3-4F98-AF83-3559C633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C33D-CA99-4980-86A1-AA811717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1578-DC72-4E66-A828-65EC7727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2C1-8D0C-401F-AD06-B346C4E2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957-47F6-4870-AE64-88FB5FD5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D55-425F-48F0-BCED-A7D2B539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78C-3A67-436B-B966-A1B3AF2D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D46-3123-4FA9-B652-E94A935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3E1-4D5C-4305-B55D-FB4A384B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690-381A-4672-8752-18F98DC0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CF52-490E-4B7E-B388-9FF1E4A80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9BD8-7B85-4664-AF0A-40FB2C0C1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sting Skills &amp; Behavi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400" y="3886200"/>
            <a:ext cx="6451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rget behavior is some type of performance reflecting how a trainee or student can carry out a particular task or a group of related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bservation/ Anecdotal Recor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 can provide a valuable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student att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bservation is carried out by the instructor while learners are at work in their normal study or activ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strument for recording can be a simple questionnaire, a rating scale, or an open-ended form on with anecdotal com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sessment in Behavi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may smile frequently about instruction but not transfer feelings outside of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 instrument for assessing behavioral changes is direct observation for lear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 may need to develop a brief questionnaire that asks students to supply this inform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naire / Survey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ended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rner writes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-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umber of fixed responses from which learners choose the answer that best reflects their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n -ended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s data that are time consuming to analyze but may be more valuable in conveying learners’ feelings and reas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ose - en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quicker to process &amp; are more reliable &amp; consist of a longer list of alternatives from which the learner checks understanding or important choices or rates the alternatives on a numerical s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 Rating Sca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dification of a questionnaire in which the learner replies to a statement by selecting a point along a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ale may be composed of two points (yes/no), three points (agree, no opinion, disagree), or the five point (very often, quite often, sometimes, hardly ever, nev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the number of rating points to five or 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verbal descriptors to define the numerical rating points (low, average, high above the numb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vie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view allows a learner to discuss their reactions toward instruction in more detail than in a survey or ques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 can be structured or un struc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advantage can be loss of control and increase in time sp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focus group” could be more lively and inform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Standards of Instructional Ob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the same as those covered during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would need to be broken down into more precise descriptions of expecte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to testing the student should have sufficient opportunities to practice and apply the skills to be able to demonstrate th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eliminary Consideration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Will the process, product, or both be evaluated? When a learner performs a task, the confidence, care, and accuracy with which he or she carries out the procedures usually are important. This is a measurement of the process portion of the task, which may include these elements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3733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liminary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1981080"/>
            <a:ext cx="54864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a proper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ing detailed mani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ools or instruments prope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in a specific tim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75212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What constraints or limitations should be recognized when planning a performance evaluation? Should one use realistic or simulated testing?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3400" y="9064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841920"/>
            <a:ext cx="3597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for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fety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needed for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n choosing a testing metho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sider these facto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quired place for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essary or specialized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s, tools, &amp; supplie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quired involvement of other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ulated or Realistic Testing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1752480"/>
            <a:ext cx="601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ulation should  be as job like as possible to serve as a valid measure of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 assessments involve the student demonstrating the performance in real-life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is good for enhancing the learning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meaningful “formative assessments” can be meaningfu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Types of Skill / Behavior Assessment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naturally occurring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ngs of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ng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2880" y="20574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cdotal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 check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hib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ttitude Assessment</a:t>
            </a:r>
            <a:br>
              <a:rPr sz="4400"/>
            </a:br>
            <a:r>
              <a:rPr b="0" lang="en-US" sz="1800" spc="-1" strike="noStrike">
                <a:solidFill>
                  <a:srgbClr val="221304"/>
                </a:solidFill>
                <a:latin typeface="Times New Roman"/>
              </a:rPr>
              <a:t>in formative, summative, &amp; confirmative evaluations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rest is in evaluating how the student reacts to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Effectiv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the how much attitude changes as a direct result of the instructional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733920" cy="3049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9:48:55Z</dcterms:created>
  <dc:creator>cindy migliaccio</dc:creator>
  <dc:description/>
  <dc:language>en-US</dc:language>
  <cp:lastModifiedBy>cindy migliaccio</cp:lastModifiedBy>
  <dcterms:modified xsi:type="dcterms:W3CDTF">2010-06-23T18:21:12Z</dcterms:modified>
  <cp:revision>5</cp:revision>
  <dc:subject/>
  <dc:title>Testing Skills &amp; Behavior</dc:title>
</cp:coreProperties>
</file>